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6E1-420A-4FD7-B162-29C39B0C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E77-D4F9-4035-BE34-62F42F89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702-026A-4538-B719-0F74225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8E8-EAE3-4F4B-8CE4-49ECAEDC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ACC-2CFD-4A51-AC6A-137B4843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483-2E38-44DE-977A-EE713D4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E62-E152-4990-93B7-DB88003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449-2C17-440A-929C-7D838AB8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445-9D8F-4C31-9747-CCBA9143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8C60-B38C-44B3-8121-AD4A8AD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A0D-2864-41FA-A98E-EB76691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381-9EDC-4C4E-8FEB-886C3BF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954-F9AF-4EB4-9AE6-7514271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1B8A-E78C-4E49-8948-184E734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5909-945C-40EA-BC3F-289D0AB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C29-1ADE-4394-A806-8B36FEB7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D85F-2C77-44FD-B2E0-F3DA5371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144-8B9A-48A6-9A74-CB4169B7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6D2-37CD-4DDF-8FF5-05253090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FF8-A98D-428F-AFFE-8FE61C4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E92-1AFA-4A34-A448-A9206B1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4E2-0E3C-4C82-98E4-B9FE42B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D5E-CD65-4207-9235-2CF75A2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81-2385-42EA-9C52-420D24D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9C8-CEF8-43A5-B4FF-FF0AAA051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E23-FCC5-40E9-8B73-2A516FAF18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hapter 7B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line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py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graphs should flow log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ghten loose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At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 attribut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already worked on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can be found on pages 180-1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nally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meticul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vigi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 we begin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made it (successfully) through the writing portion – now it is time to work on crafting the newspape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dline Wr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almost impossible to write a good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lines should be pulled from the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simply restate the lead ei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yles of Headli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ed (we do this a little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-left/ragged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mer Head – top line larger than bottom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cker – smaller headline above the main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ket – not used much – several lines lead up to the main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dline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write in all-caps – only capitalize the first word and all prope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 all articles and unnecess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 should always be in presen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nfinitives for future t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llit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play on words – don’t go over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ylistic Issues with Headli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infinitives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people’s names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prepositions and phrase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verbs of ‘to b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hort word list on page 1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strive for correctness and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our own stylebook to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the follow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lling – real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ling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placed prono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verb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Copy 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ways to enhance story coherence through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editor should not make changes, however, just because he or she feels the need to do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cause for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know how to sp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also check facts with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ttention t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in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0:06:27Z</dcterms:created>
  <dc:creator>jvanengen</dc:creator>
  <dc:description/>
  <dc:language>en-US</dc:language>
  <cp:lastModifiedBy>Administrator</cp:lastModifiedBy>
  <dcterms:modified xsi:type="dcterms:W3CDTF">2009-04-14T20:22:01Z</dcterms:modified>
  <cp:revision>6</cp:revision>
  <dc:subject/>
  <dc:title>Chapter 7B</dc:title>
</cp:coreProperties>
</file>